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9453B-02AE-422A-A29A-30FE1D88778B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9C6BB-F5A2-4A5E-B3EE-CE5C0EFA52A9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BA0-9D5C-4DE6-AF94-D2902BBE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8CB-732E-424D-97E2-23CAE444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BFC-E238-4AD2-B2CD-BBAF3398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ABB-7BAA-44A3-A0A2-418C1A44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64F-DFDF-4AA5-B978-8143F11B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D25-7451-4550-B45B-1DD13372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969-344E-43E4-90B6-CFC1A060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BD3-B8D8-4F86-9D77-A9A471D2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D8D-85F4-4FF5-93E5-792E7364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41A-D4D1-4459-AD8B-BF037E26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782-5763-4381-836D-26744C60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4B7-40B2-4D97-8F5C-CC53C15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15354-9F3B-471A-829D-8506EDDFD14C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-4680" y="-792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20:14:05Z</dcterms:created>
  <dc:creator>Munro, Carole</dc:creator>
  <dc:description/>
  <dc:language>en-US</dc:language>
  <cp:lastModifiedBy>Carole Munro</cp:lastModifiedBy>
  <dcterms:modified xsi:type="dcterms:W3CDTF">2015-09-01T13:41:14Z</dcterms:modified>
  <cp:revision>2</cp:revision>
  <dc:subject/>
  <dc:title>PowerPoint Presentation</dc:title>
</cp:coreProperties>
</file>