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155448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82F-1161-4F59-BA50-403ACBEC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855000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9362160"/>
            <a:ext cx="855000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960-9E2F-43A8-9010-BA7A8B11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936216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936216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C0D-8B07-4B9A-8F33-0C1F1C88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449064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449064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936216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936216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936216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918-6847-459C-AFEB-2BC54E04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4490640"/>
            <a:ext cx="8550000" cy="932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52E-B8A3-4FDD-BED5-3A61EB70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855000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DC6-FF8D-42E4-9848-F8709C45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095-141C-4155-AC7C-38B247BE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8EB-4134-483E-A5D4-8BE9E3B7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1380600"/>
            <a:ext cx="8550000" cy="12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76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DDC-BD60-48BA-B5A2-C7815912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936216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87B-D861-40DD-8567-CE39804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936216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658-1712-43E4-93E8-346F4D42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9362160"/>
            <a:ext cx="855000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441-FC4E-43DB-91F2-09A38282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4490640"/>
            <a:ext cx="855000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 fontScale="98000"/>
          </a:bodyPr>
          <a:p>
            <a:pPr marL="538200" indent="-53820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4960" indent="-447840">
              <a:spcBef>
                <a:spcPts val="1276"/>
              </a:spcBef>
              <a:buClr>
                <a:srgbClr val="000000"/>
              </a:buClr>
              <a:buFont typeface="Times New Roman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2" marL="1792080" indent="-35748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3" marL="2509200" indent="-359280">
              <a:spcBef>
                <a:spcPts val="1276"/>
              </a:spcBef>
              <a:buClr>
                <a:srgbClr val="000000"/>
              </a:buClr>
              <a:buFont typeface="Times New Roman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6680" indent="-359280">
              <a:spcBef>
                <a:spcPts val="1276"/>
              </a:spcBef>
              <a:buClr>
                <a:srgbClr val="000000"/>
              </a:buClr>
              <a:buFont typeface="Times New Roman"/>
              <a:buChar char="»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6680" indent="-359280">
              <a:spcBef>
                <a:spcPts val="1276"/>
              </a:spcBef>
              <a:buClr>
                <a:srgbClr val="000000"/>
              </a:buClr>
              <a:buFont typeface="Times New Roman"/>
              <a:buChar char="»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6680" indent="-359280">
              <a:spcBef>
                <a:spcPts val="1276"/>
              </a:spcBef>
              <a:buClr>
                <a:srgbClr val="000000"/>
              </a:buClr>
              <a:buFont typeface="Times New Roman"/>
              <a:buChar char="»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14163480"/>
            <a:ext cx="2095200" cy="10350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14163480"/>
            <a:ext cx="3184560" cy="10350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14163480"/>
            <a:ext cx="2095200" cy="10350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fld id="{B6B5D49F-1C08-4B8C-B55D-B94D6FA6D824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cptpn-3.eventzilla.net/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00800" y="12192120"/>
            <a:ext cx="914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1242072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0896480"/>
            <a:ext cx="9448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4744001_lg" descr=""/>
          <p:cNvPicPr/>
          <p:nvPr/>
        </p:nvPicPr>
        <p:blipFill>
          <a:blip r:embed="rId1"/>
          <a:stretch/>
        </p:blipFill>
        <p:spPr>
          <a:xfrm>
            <a:off x="7315200" y="13792320"/>
            <a:ext cx="2362320" cy="13921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45" name="Scene%20South%20Distance%20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97960" cy="13030200"/>
          </a:xfrm>
          <a:prstGeom prst="rect">
            <a:avLst/>
          </a:prstGeom>
          <a:ln w="165240">
            <a:solidFill>
              <a:srgbClr val="cc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52280" y="12496680"/>
            <a:ext cx="975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3563720"/>
            <a:ext cx="9753840" cy="1828800"/>
          </a:xfrm>
          <a:prstGeom prst="rect">
            <a:avLst/>
          </a:prstGeom>
          <a:noFill/>
          <a:ln w="165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1005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 Black"/>
              </a:rPr>
              <a:t>Canadian Prairie Theoretical Physics Net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7010280"/>
            <a:ext cx="94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ll researcher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from the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anadian prairie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lsewhere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ith interests in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theoretical physics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re invited to participate.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embership in the CPTPN is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ncouraged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but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ot required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ostdoctoral fellows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raduate/undergraduate student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are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especially welcome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to atte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005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Arial Black"/>
              </a:rPr>
              <a:t>3</a:t>
            </a:r>
            <a:r>
              <a:rPr b="0" i="1" lang="en-US" sz="4800" spc="-1" strike="noStrike" baseline="30000">
                <a:solidFill>
                  <a:srgbClr val="cc0000"/>
                </a:solidFill>
                <a:latin typeface="Arial Black"/>
              </a:rPr>
              <a:t>rd</a:t>
            </a:r>
            <a:r>
              <a:rPr b="0" i="1" lang="en-US" sz="4800" spc="-1" strike="noStrike">
                <a:solidFill>
                  <a:srgbClr val="cc0000"/>
                </a:solidFill>
                <a:latin typeface="Arial Black"/>
              </a:rPr>
              <a:t> Meeting (CPTPN-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495680"/>
            <a:ext cx="1005840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cc0000"/>
                </a:solidFill>
                <a:latin typeface="Arial Narrow"/>
              </a:rPr>
              <a:t>First Nations University of Canada</a:t>
            </a:r>
            <a:br>
              <a:rPr sz="4800"/>
            </a:br>
            <a:r>
              <a:rPr b="0" i="1" lang="en-US" sz="4400" spc="-1" strike="noStrike">
                <a:solidFill>
                  <a:srgbClr val="cc0000"/>
                </a:solidFill>
                <a:latin typeface="Arial Narrow"/>
              </a:rPr>
              <a:t>Regina, Saskatchewan</a:t>
            </a:r>
            <a:br>
              <a:rPr sz="4400"/>
            </a:br>
            <a:r>
              <a:rPr b="0" i="1" lang="en-US" sz="4400" spc="-1" strike="noStrike">
                <a:solidFill>
                  <a:srgbClr val="cc0000"/>
                </a:solidFill>
                <a:latin typeface="Arial Narrow"/>
              </a:rPr>
              <a:t>August 21-22, 20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379232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3792320"/>
            <a:ext cx="70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 Black"/>
              </a:rPr>
              <a:t>For more information about the CPTPN:</a:t>
            </a:r>
            <a:br>
              <a:rPr sz="2400"/>
            </a:b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ptpn.network@gmail.com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https://profiles.google.com/cptpn.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_green" descr=""/>
          <p:cNvPicPr/>
          <p:nvPr/>
        </p:nvPicPr>
        <p:blipFill>
          <a:blip r:embed="rId3"/>
          <a:stretch/>
        </p:blipFill>
        <p:spPr>
          <a:xfrm>
            <a:off x="7620120" y="12234960"/>
            <a:ext cx="2057400" cy="9079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55" name="500px-FNUofCanada_Logo_svg" descr=""/>
          <p:cNvPicPr/>
          <p:nvPr/>
        </p:nvPicPr>
        <p:blipFill>
          <a:blip r:embed="rId4"/>
          <a:stretch/>
        </p:blipFill>
        <p:spPr>
          <a:xfrm>
            <a:off x="304920" y="11353680"/>
            <a:ext cx="806400" cy="1762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219320" y="12115800"/>
            <a:ext cx="5943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Sponsored by </a:t>
            </a:r>
            <a:r>
              <a:rPr b="1" lang="en-US" sz="1900" spc="-1" strike="noStrike">
                <a:solidFill>
                  <a:srgbClr val="ffff99"/>
                </a:solidFill>
                <a:latin typeface="Arial"/>
              </a:rPr>
              <a:t>First Nations University of Canada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ffff99"/>
                </a:solidFill>
                <a:latin typeface="Arial"/>
              </a:rPr>
              <a:t>University of Regina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ffff99"/>
                </a:solidFill>
                <a:latin typeface="Arial"/>
              </a:rPr>
              <a:t>Perimeter Institute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, and</a:t>
            </a:r>
            <a:r>
              <a:rPr b="1" lang="en-US" sz="1900" spc="-1" strike="noStrike">
                <a:solidFill>
                  <a:srgbClr val="ffff99"/>
                </a:solidFill>
                <a:latin typeface="Arial"/>
              </a:rPr>
              <a:t> Pacific Institute for the Mathematical Sciences</a:t>
            </a:r>
            <a:br>
              <a:rPr sz="1900"/>
            </a:b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(June 18, 20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1173492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o register for CPTPN-3:</a:t>
            </a:r>
            <a:r>
              <a:rPr b="1" i="1" lang="en-US" sz="1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cptpn-3.eventzill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LOGO" descr=""/>
          <p:cNvPicPr/>
          <p:nvPr/>
        </p:nvPicPr>
        <p:blipFill>
          <a:blip r:embed="rId6"/>
          <a:stretch/>
        </p:blipFill>
        <p:spPr>
          <a:xfrm>
            <a:off x="7620120" y="10820520"/>
            <a:ext cx="105228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9" name="pims-logo-1" descr=""/>
          <p:cNvPicPr/>
          <p:nvPr/>
        </p:nvPicPr>
        <p:blipFill>
          <a:blip r:embed="rId7"/>
          <a:stretch/>
        </p:blipFill>
        <p:spPr>
          <a:xfrm>
            <a:off x="8763120" y="10820520"/>
            <a:ext cx="927000" cy="12952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8:07:06Z</dcterms:created>
  <dc:creator>Dinesh Singh</dc:creator>
  <dc:description/>
  <dc:language>en-US</dc:language>
  <cp:lastModifiedBy>Dinesh Singh</cp:lastModifiedBy>
  <dcterms:modified xsi:type="dcterms:W3CDTF">2012-07-19T17:13:31Z</dcterms:modified>
  <cp:revision>170</cp:revision>
  <dc:subject/>
  <dc:title>CPTPN-3 Poster - 1</dc:title>
</cp:coreProperties>
</file>